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0F125-2E36-4620-A895-5A2417ADD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83E9C-5AD6-4898-9B5C-BACEBBAE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8008B-F244-4914-BC28-134B2DFBF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80A0E-30D6-4F18-BBED-A3E6C78C6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197B-ECFA-4E28-9E3E-EED445D0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3949-CB27-499C-9CD0-CCE718F2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605A-D438-40E5-A957-51823005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F977-2131-44EF-90F9-C8930635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9A6A-716F-428C-AA90-1F68D101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2FB9-D0BB-4756-BEA8-00370921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CA5C-1021-450F-AD6B-A87B8891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1918D-6FC5-4534-BE19-3229C106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D5F3-2B1F-44F1-BAA4-84FBEA20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BE22-3D8E-4BEB-8FD9-07A00879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487A-4017-4A54-871D-FBADA101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70B0-2902-4CFB-A60F-C72A0A5B9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6840-49AE-4A30-8696-6F42621D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AE11D-2BC3-4C0C-9B73-FAF7536F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15962-06E1-4841-8EBE-5DA293E8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4D003-BA0F-4064-972F-F379A6D0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C8ACD-B183-4348-A9A0-508FCD9F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F6DBD-CF84-4B4D-9EDF-7FCEF65B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554EF-FBC0-42E2-B38C-DE2A0605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85754-922D-4456-BA6D-4F14AA24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15DB-CF9E-4FA6-BDDC-3259F3A3E3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04C0-5FAA-42E9-B111-BAFD6CCBB4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omtel.cz/cz/?s=vyuka&amp;l=pred_detail&amp;kod=106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68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00000"/>
                </a:solidFill>
                <a:latin typeface="Arial"/>
              </a:rPr>
              <a:t>Multiplexní metod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16000" y="2205000"/>
            <a:ext cx="4895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Arial"/>
              </a:rPr>
              <a:t>X32TSS - Telekomunikační systémy a sítě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Seminární projek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Vypracovali: Zuzana Kút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Petr Votav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6.semestr 2005/200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DM- Wave Division multiplex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ívá posunutých vlnových dél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nosové médium- optické vlák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W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WDM (Density WDM)- rozestupy mezi kanály jednotky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WDM (Coarse WDM)- rozestupy mezi signály desítky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timalizace přenosové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lepší využití přenosových cest pracujeme s digitalizovaným a sdruženým signálem. Hovoříme o TDM+WD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34695-4F81-4CAB-A24D-5AEC55427B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DM- Wave Division multiplex 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silovače signá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ektron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žitější zaříze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utnost převodu optického signálu na elektrický, oprava časování a tvar, převod zpět na optický sign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DFA (Erbium Doped Fiber Amplifier)- zesilovač na optické bázi (stimulovaná emis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→zesílení světelného tok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hoda: při 32 kanálovém provozu potřebujeme pouze 9 EDFA zesilovačů (1000 Km) oproti 288 elekronickým zesilovačů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50ECA-005C-4159-B43F-45C2717DEF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oucnost       optická vedení      W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soká přenosová rych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lehlivost a kvalita přeno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132000" y="4076640"/>
            <a:ext cx="2286000" cy="1600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627280" y="206064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76720" y="2060640"/>
            <a:ext cx="433440" cy="287280"/>
          </a:xfrm>
          <a:prstGeom prst="rightArrow">
            <a:avLst>
              <a:gd name="adj1" fmla="val 50000"/>
              <a:gd name="adj2" fmla="val 37719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AE50F-B1A0-4817-AD18-38CDD34E3E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droje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ni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voboda, J., a spol. : Telekomunikační technika II. díl, Přenos dat, spojovací a přenosové systémy, Odborné nakladatelství 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ti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Beneš, Praha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mtel : 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comtel.cz/cz/?s=vyuka&amp;l=pred_detail&amp;kod=10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4AF67-F647-4AD5-92FF-736B80DB7D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rozdělení multiplex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DM – Frequency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ncip frekvenčního multiplex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- drátový stejnopásmový (různopásmový) prov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DM- Tim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ncip časového multiplex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DM- Cod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DM- Wav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67D48-E7B6-4050-8A34-049A8F9DD5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ní rozdělení multiplex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voj telekomunikačních služeb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→ zvyšování kapacity přenosových kaná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Možnosti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měna starých kabelů za nové s více žilami → neekonom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ltiplex = lepší využití stávajících přenosových c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multiplex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vodov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rekvenční (F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vý (T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ódový (C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nový (W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AD151-AC7B-4E0B-9A3E-6ADF2294E2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DM – Frequency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ívá frekvenčně posunutých hovorových pásem (AM modul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ířka hovorového pásma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f = 31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dstupy pásem 900 Hz → šířka přenášeného pásma 40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bsazení frekvenčního pá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nalogie s radiovým signá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užití stíněných vodičů → na všech mohou být stejné frekv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spořádání přenosové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- drátové stejnopásm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- drátové různopásm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- drátov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584A8-0CD0-4CB8-8A27-7F158ED690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 frekvenčního multiplex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01760" y="1341360"/>
            <a:ext cx="4821480" cy="525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A677C-C917-4648-B743-B9EBA4FBB1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- drátový stejnopásmový (různopásmový) prov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987640" y="3716280"/>
            <a:ext cx="5905440" cy="2360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16000" y="220500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436572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24360" y="342900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04000" y="4437000"/>
            <a:ext cx="115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5472000" cy="474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9B6B6-3F63-43F4-A9F0-DE001F99B2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DM- Time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vé dělení kanál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→každý signál má přidělen určitý časový úsek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Úseku přiřadíme jeho okamžitou hodnotu v určitém čase (vzorko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zorkovací frekv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usí splňovat Shannon- Kotělnikovův teor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≥ 2*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o telefonní signál je 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= 80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CM 1.řá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praxi se TDM kombinuje s digitalizací signálu, tomu odpovídá PCM 1.řá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0A92A-EFA4-4A42-A8BC-78D5D05506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 časového multiplex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71640" y="1413000"/>
          <a:ext cx="220320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13000"/>
                    <a:ext cx="220320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284720" y="2349360"/>
            <a:ext cx="4038480" cy="2810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76720" y="4797360"/>
            <a:ext cx="1944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ynchron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02880" y="263700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2880" y="306864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02880" y="3573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02880" y="4005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63960" y="263700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63960" y="306864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63960" y="3573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63960" y="4005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33040" y="1989000"/>
            <a:ext cx="1717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7960" y="1989000"/>
            <a:ext cx="1552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EE0DC-92AB-4ED1-B5D9-4F5FBB9943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DM- Code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ílčí přenosy jso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"zakódovány" do jediného sp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č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ého 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osu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ý účastník si z tohoto celk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kódu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co mu 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ísluší, pomocí kódu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ý z přenášených signálů používá jiný kód (pseudonásobnou sekvenc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hoda -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ysoká efektivnost vy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í dostupného frekvenčního pásma</a:t>
            </a:r>
            <a:r>
              <a:rPr b="1" i="1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D3C56-5AE7-41DC-B211-EF27829B88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7:44:08Z</dcterms:created>
  <dc:creator>petr</dc:creator>
  <dc:description/>
  <dc:language>en-US</dc:language>
  <cp:lastModifiedBy>student</cp:lastModifiedBy>
  <dcterms:modified xsi:type="dcterms:W3CDTF">2006-05-23T11:52:58Z</dcterms:modified>
  <cp:revision>34</cp:revision>
  <dc:subject/>
  <dc:title>Multiplexní metody</dc:title>
</cp:coreProperties>
</file>