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4267080" y="0"/>
            <a:ext cx="3275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8200" y="837720"/>
            <a:ext cx="528156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6092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10134360"/>
            <a:ext cx="327492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267080" y="10134360"/>
            <a:ext cx="327528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ED3620-C397-488E-AA6A-BE5E71C3F837}" type="slidenum">
              <a: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990360" y="5105160"/>
            <a:ext cx="556236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990360" y="5105160"/>
            <a:ext cx="556236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990360" y="5105160"/>
            <a:ext cx="556236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990360" y="5105160"/>
            <a:ext cx="556236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054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700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08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054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700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0880" y="-25920"/>
            <a:ext cx="8604360" cy="87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98520" indent="-301320">
              <a:lnSpc>
                <a:spcPct val="15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99920" indent="-265680">
              <a:lnSpc>
                <a:spcPct val="15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01680" indent="-199440">
              <a:lnSpc>
                <a:spcPct val="15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3080" indent="-197640">
              <a:lnSpc>
                <a:spcPct val="15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04480" indent="-199080">
              <a:lnSpc>
                <a:spcPct val="15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04480" indent="-199080">
              <a:lnSpc>
                <a:spcPct val="15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04480" indent="-199080">
              <a:lnSpc>
                <a:spcPct val="15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Optická vlákna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82720" y="1561680"/>
            <a:ext cx="84772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Arial"/>
              </a:rPr>
              <a:t>Semestrální práce z předmětu 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Arial"/>
              </a:rPr>
              <a:t>X32TSS – Telekomunikační systémy a sítě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Arial"/>
              </a:rPr>
              <a:t>3.ročník FEL ČVUT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Arial"/>
              </a:rPr>
              <a:t>Leoš Junek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Arial"/>
              </a:rPr>
              <a:t>Michal Kurdiovský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760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>
              <a:lnSpc>
                <a:spcPct val="124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Výhody a nevýhody opt. vláke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0880" y="1439640"/>
            <a:ext cx="428004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e6e6e6"/>
                </a:solidFill>
                <a:latin typeface="Times New Roman"/>
              </a:rPr>
              <a:t>Výhody: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Imunita vůči elmag. polím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Velká přenosová šířka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Interferenční imunita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Odolnost proti žíravinám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Přenášení i malého množství energie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Explozní imunita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Teplota okolního prostředí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Snazší a lacinější instalace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Malé rozměry a hmotnost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Vysoká kvalita přenosu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Nízká cena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86040" y="1447560"/>
            <a:ext cx="4280040" cy="32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e6e6e6"/>
                </a:solidFill>
                <a:latin typeface="Times New Roman"/>
              </a:rPr>
              <a:t>Nevýhody: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Absorbce vodíku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Vysoká cena pro malý přenosový výkon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Mechanické namáháni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Nevodivost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Radiace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1371600"/>
            <a:ext cx="43671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tická vlákna nabízí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ysoké rychlosti přenos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elké přenosové vzdále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říznivá ce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rend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udoucnost  telekomunikac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ychlosti přenosu dat porost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ení zcela využit potenciá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1240" y="445680"/>
            <a:ext cx="860760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Závěr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968720" y="1763640"/>
            <a:ext cx="4824720" cy="40482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376360" y="3995640"/>
            <a:ext cx="486000" cy="432000"/>
          </a:xfrm>
          <a:prstGeom prst="downArrow">
            <a:avLst>
              <a:gd name="adj1" fmla="val 50000"/>
              <a:gd name="adj2" fmla="val 25000"/>
            </a:avLst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>
              <a:lnSpc>
                <a:spcPct val="124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Úvod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79640" y="1440000"/>
            <a:ext cx="8477280" cy="29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Optické vlákno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průhledné tenké vlákno pro přenos světla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sklo, plast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vláknová optika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telekomunikace, osvětlení, senzory,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22860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obrazová technika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697800" y="2160720"/>
            <a:ext cx="3022560" cy="45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>
              <a:lnSpc>
                <a:spcPct val="124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rincip funkc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2720" y="1355400"/>
            <a:ext cx="8477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Optické vlákno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(</a:t>
            </a:r>
            <a:r>
              <a:rPr b="0" i="1" lang="en-GB" sz="2400" spc="-1" strike="noStrike">
                <a:solidFill>
                  <a:srgbClr val="e6e6e6"/>
                </a:solidFill>
                <a:latin typeface="Times New Roman"/>
              </a:rPr>
              <a:t>am.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 optical fiber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e6e6e6"/>
                </a:solidFill>
                <a:latin typeface="Times New Roman"/>
              </a:rPr>
              <a:t>br.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optical fibre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jádro obklopené obalovou vrstvou (pláštěm)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válcový dielektrický vlnovod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00" spc="-1" strike="noStrike">
                <a:solidFill>
                  <a:srgbClr val="e6e6e6"/>
                </a:solidFill>
                <a:latin typeface="Times New Roman"/>
              </a:rPr>
              <a:t>                                      </a:t>
            </a:r>
            <a:endParaRPr b="0" lang="en-US" sz="5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Totální odraz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total internal reflection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rozhraní jádro-plášť: žádný lom, pouze odraz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materiálová podmínka: n</a:t>
            </a:r>
            <a:r>
              <a:rPr b="0" lang="en-GB" sz="2400" spc="-1" strike="noStrike" baseline="-21000">
                <a:solidFill>
                  <a:srgbClr val="e6e6e6"/>
                </a:solidFill>
                <a:latin typeface="Times New Roman"/>
              </a:rPr>
              <a:t>jádro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&gt; n</a:t>
            </a:r>
            <a:r>
              <a:rPr b="0" lang="en-GB" sz="2400" spc="-1" strike="noStrike" baseline="-21000">
                <a:solidFill>
                  <a:srgbClr val="e6e6e6"/>
                </a:solidFill>
                <a:latin typeface="Times New Roman"/>
              </a:rPr>
              <a:t>plášť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optická podmínka: úhel dopadu 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ν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&gt; 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ν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2400" spc="-1" strike="noStrike" baseline="-21000">
                <a:solidFill>
                  <a:srgbClr val="e6e6e6"/>
                </a:solidFill>
                <a:latin typeface="Times New Roman"/>
              </a:rPr>
              <a:t>krit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, kde 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ν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2400" spc="-1" strike="noStrike" baseline="-21000">
                <a:solidFill>
                  <a:srgbClr val="e6e6e6"/>
                </a:solidFill>
                <a:latin typeface="Times New Roman"/>
              </a:rPr>
              <a:t>krit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 je </a:t>
            </a: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kritický úhel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(úhel měříme od kolmice na rovinu dopadu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64000" y="4932360"/>
            <a:ext cx="4392360" cy="20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>
              <a:lnSpc>
                <a:spcPct val="124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Typy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0720" y="1355760"/>
            <a:ext cx="8820000" cy="38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Optický vlnovod</a:t>
            </a: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optical waveguide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přenáší jednu nebo více vln světelných paprsků, tzv. vidů 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modes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e6e6e6"/>
                </a:solidFill>
                <a:latin typeface="Times New Roman"/>
              </a:rPr>
              <a:t>              </a:t>
            </a:r>
            <a:endParaRPr b="0" lang="en-US" sz="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Vlákna jednovidová a vícevidová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jednovidové vlákno 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single mode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mono-mode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mnohovidové vlákno 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multi-mode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</a:t>
            </a:r>
            <a:r>
              <a:rPr b="0" lang="en-GB" sz="1900" spc="-1" strike="noStrike">
                <a:solidFill>
                  <a:srgbClr val="e6e6e6"/>
                </a:solidFill>
                <a:latin typeface="Times New Roman"/>
              </a:rPr>
              <a:t>zvláště u jednovidových vláken: část energie přenášena pláštěm (</a:t>
            </a:r>
            <a:r>
              <a:rPr b="1" lang="en-GB" sz="1900" spc="-1" strike="noStrike">
                <a:solidFill>
                  <a:srgbClr val="e6e6e6"/>
                </a:solidFill>
                <a:latin typeface="Times New Roman"/>
              </a:rPr>
              <a:t>evanescentní vlna</a:t>
            </a:r>
            <a:r>
              <a:rPr b="0" lang="en-GB" sz="19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jednovidové vlákno: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319640" y="4140360"/>
            <a:ext cx="3403440" cy="27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445680"/>
            <a:ext cx="860760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Typy </a:t>
            </a:r>
            <a:r>
              <a:rPr b="1" i="1" lang="en-GB" sz="2400" spc="-1" strike="noStrike">
                <a:solidFill>
                  <a:srgbClr val="ff9966"/>
                </a:solidFill>
                <a:latin typeface="Arial"/>
              </a:rPr>
              <a:t>(pokračování)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87400" y="1360440"/>
            <a:ext cx="6908760" cy="4040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0720" y="5579640"/>
            <a:ext cx="792000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Arial"/>
              </a:rPr>
              <a:t>jednovidové vlákno –  průměr  8 µm až  10 µm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Arial"/>
              </a:rPr>
              <a:t>mnohovidové vlákno – průměr  50 µm, 62,5 µm a více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>
              <a:lnSpc>
                <a:spcPct val="124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Materiály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2720" y="1439640"/>
            <a:ext cx="8477280" cy="47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Běžná vlákna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– křemík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Vlákna pro přenos záření vyšších vlnových délek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(infračervené z.) 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zirkoničitan fluorový (</a:t>
            </a:r>
            <a:r>
              <a:rPr b="0" lang="en-GB" sz="1800" spc="-1" strike="noStrike">
                <a:solidFill>
                  <a:srgbClr val="00ffff"/>
                </a:solidFill>
                <a:latin typeface="Times New Roman"/>
              </a:rPr>
              <a:t>fluorozirconate</a:t>
            </a: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hlinitan fluorový (</a:t>
            </a:r>
            <a:r>
              <a:rPr b="0" lang="en-GB" sz="1800" spc="-1" strike="noStrike">
                <a:solidFill>
                  <a:srgbClr val="00ffff"/>
                </a:solidFill>
                <a:latin typeface="Times New Roman"/>
              </a:rPr>
              <a:t>fluoroaluminate</a:t>
            </a: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chalkogenit (</a:t>
            </a:r>
            <a:r>
              <a:rPr b="0" lang="en-GB" sz="1800" spc="-1" strike="noStrike">
                <a:solidFill>
                  <a:srgbClr val="00ffff"/>
                </a:solidFill>
                <a:latin typeface="Times New Roman"/>
              </a:rPr>
              <a:t>chalcogenide glasses</a:t>
            </a: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Index lomu těchto skel: asi 1,5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Rozdíl indexů lomu mezi jádrem a pláštěm: menší než 1%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Plastová vlákna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plastic optical fiber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, POF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jádro: polymetylmetakrylát (PMMA), plášť: fluorované polymery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obvykle skoková změna indexu lomu (SI), mnohovidová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mnohem vyšší útlum: 1 dBm</a:t>
            </a:r>
            <a:r>
              <a:rPr b="0" lang="en-GB" sz="2400" spc="-1" strike="noStrike" baseline="21000">
                <a:solidFill>
                  <a:srgbClr val="e6e6e6"/>
                </a:solidFill>
                <a:latin typeface="Times New Roman"/>
              </a:rPr>
              <a:t>-1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a vyšší =&gt; brání širšímu užití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324480" y="2362320"/>
            <a:ext cx="1860840" cy="13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>
              <a:lnSpc>
                <a:spcPct val="124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oužití optických vláken (obecně)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03080" y="1439640"/>
            <a:ext cx="8476920" cy="54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Využití pro přenos dat: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vysokorychlostní přenosy dat na velké vzdálenosti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(podmořské kabely, mezinárodní a národní sítě,  metropolitní sítě, průmyslový ethernet)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rychlý přenos dat s požadavkem na minimální ztráty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(přenos digitální informace z DVD/CD/MD rekordérů)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Využití bez přenosu dat: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dekorativní i přímé osvětlování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(v bazénech, sprchových koutech, saunách nebo v prostředích s nebezpečím výbuchu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optovláknové snímače teploty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medicínské využití (odstraňování usazenin v cévách atd.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445680"/>
            <a:ext cx="860760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oužití optických kabelů </a:t>
            </a:r>
            <a:r>
              <a:rPr b="1" i="1" lang="en-GB" sz="3200" spc="-1" strike="noStrike">
                <a:solidFill>
                  <a:srgbClr val="ff9966"/>
                </a:solidFill>
                <a:latin typeface="Arial"/>
              </a:rPr>
              <a:t>(konkrétně)</a:t>
            </a: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771040" cy="677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e6e6e6"/>
                </a:solidFill>
                <a:latin typeface="Times New Roman"/>
              </a:rPr>
              <a:t>                              </a:t>
            </a:r>
            <a:endParaRPr b="0" lang="en-US" sz="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 algn="ctr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e6e6e6"/>
                </a:solidFill>
                <a:latin typeface="Times New Roman"/>
              </a:rPr>
              <a:t>Využití pro přenos dat: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e6e6e6"/>
                </a:solidFill>
                <a:latin typeface="Times New Roman"/>
              </a:rPr>
              <a:t>GÉANT </a:t>
            </a: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 (celoevropská akademická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počítačová</a:t>
            </a: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 sít)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- 10 Gbps (CESNET připojen rychlostí 2,5 Gbps)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- propojuje více než 3 tisíce evropských institucí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e6e6e6"/>
                </a:solidFill>
                <a:latin typeface="Times New Roman"/>
              </a:rPr>
              <a:t>                       </a:t>
            </a:r>
            <a:endParaRPr b="0" lang="en-US" sz="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e6e6e6"/>
                </a:solidFill>
                <a:latin typeface="Times New Roman"/>
              </a:rPr>
              <a:t>CESNET2 </a:t>
            </a: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 (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akademická počítačová síť ČR)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rychlost 10 Gbps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páteřní linka - technologie DWDM, ostatní okruhy  technologie POS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páteřní linka propojuje Prahu, Brno, Olomouc a Hradec Králové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e6e6e6"/>
                </a:solidFill>
                <a:latin typeface="Times New Roman"/>
              </a:rPr>
              <a:t>                         </a:t>
            </a:r>
            <a:endParaRPr b="0" lang="en-US" sz="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e6e6e6"/>
                </a:solidFill>
                <a:latin typeface="Times New Roman"/>
              </a:rPr>
              <a:t>PASNET </a:t>
            </a: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(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Pražská akademická počítačová síť)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10 Gbps páteřní síť napojena na CESNET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100 km optických cest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e6e6e6"/>
                </a:solidFill>
                <a:latin typeface="Times New Roman"/>
              </a:rPr>
              <a:t>                     </a:t>
            </a:r>
            <a:endParaRPr b="0" lang="en-US" sz="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445680"/>
            <a:ext cx="860760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oužití opt. vláken </a:t>
            </a:r>
            <a:r>
              <a:rPr b="1" i="1" lang="en-GB" sz="3200" spc="-1" strike="noStrike">
                <a:solidFill>
                  <a:srgbClr val="ff9966"/>
                </a:solidFill>
                <a:latin typeface="Arial"/>
              </a:rPr>
              <a:t>(pokračování)</a:t>
            </a: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935520" cy="536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876920" y="4038480"/>
            <a:ext cx="4267080" cy="2863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876920" y="1523880"/>
            <a:ext cx="4267080" cy="2367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699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5238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GÉ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77280" y="152388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CES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77280" y="4038480"/>
            <a:ext cx="1107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PAS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pog</cp:lastModifiedBy>
  <cp:revision>0</cp:revision>
  <dc:subject/>
  <dc:title>Optická vlákna</dc:title>
</cp:coreProperties>
</file>