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7ACA-BE59-4CDB-B5C1-3FBF6B832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EE64-BE22-4621-8A4A-8B86CDE6B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C766-D556-4299-AC94-187E8399C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668A-2D12-4794-9C65-BEFE6B80F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860E-2ED1-4DA8-BC64-B3B8258A3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F50B-6CB9-4DE1-AF4F-0CA1A7432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16C1-9C55-44AE-89B4-B7A062179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CAF4-C403-4799-BEDE-904D512E9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2F9F-CF3D-47A5-84A1-2D15C8325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A947-B20C-4C99-8D3D-7175F8FA7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9944-6B81-4F24-B1E5-389D9CC27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85EA-A838-42F9-B3DA-B19F4C96C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349360"/>
            <a:ext cx="7772400" cy="16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Multiprotocol Label Switching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(MPL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9280" y="620640"/>
            <a:ext cx="82076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X32TSS - Telekomunikační systémy a sítě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68360" y="5084640"/>
            <a:ext cx="820728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ít Wasserbau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rtin Zahradi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Úv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94920" y="2204640"/>
            <a:ext cx="843588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eposílání paketů realizováno jiným způsobem než v běžné IP sí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 vstupu MPLS sítě je paket vybaven značkou (labe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měrovač přeposílá označkovaný paket podle přepínací tabulky a může zároveň měnit hodnotu znač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 konci MPLS sítě je značka odejmuta a paket je dále transportován klasickým způsobem na základě IP adres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1413000"/>
            <a:ext cx="8136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PLS síť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Mechanismus MPLS sít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3933720"/>
            <a:ext cx="8229600" cy="21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LSR (Label Switch Router) – směrovač, přepíná pakety na základě MPLS znač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raniční (edge) LS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ngress LSR – provádí vložení znač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Egress LSR – provádí odebrání znač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195640" y="1413000"/>
            <a:ext cx="468144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Struktura značk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49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bit. značka umístěná v rámci 32bit. MPLS hlavičk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340000" y="1700280"/>
            <a:ext cx="4503600" cy="6951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24000" y="2421000"/>
            <a:ext cx="849600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 - experimentální bity pro potřeby klasifikace pake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– bit označující první MPLS značku vloženou do pake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TL – bity s významem jako identické pole v IP hlavič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340000" y="3860640"/>
            <a:ext cx="4560840" cy="16671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24000" y="5516640"/>
            <a:ext cx="849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ložena mezi hlavičku rámce a transportovaný IP pak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Přidělování znač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le cílové IP adresy a QoS parametrů (Quality of Servi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le příslušnosti paketu do VPN zákazní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le multicastové adre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1268280"/>
            <a:ext cx="83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načka může být paketu přidělena např. na základě těchto kritéri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24000" y="2852640"/>
            <a:ext cx="835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FEC (Forwarding Equivalence Class) – množina paketů daným kritériím vyhovují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3429000"/>
            <a:ext cx="835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množina FEC -&gt; vlastní značka -&gt; určení cesty MPLS sí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4000" y="3933720"/>
            <a:ext cx="835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LDP (Label Distribution Protocol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4365720"/>
            <a:ext cx="8229600" cy="19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ytváří FEC na základě prefixu IP adre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ároveň distribuce značek jednotlivých FEC mezi uzly MPLS sít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uje následující LSR o přiřazení znač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ardizováno několik různých LDP – v MPLS síti nemusí být použit pouze je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TM přepínače v MPLS sítí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000" y="1989000"/>
            <a:ext cx="8351640" cy="28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e možné je po změně softwaru použít jako LSR (ATM-LS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zavádí se speciální MPLS hlavič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načky zakódovány do polí VPI/VCI, kam tento přepínač přistupu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3 druhy kódování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VC kódování – celé pole VPI/VCI pro značku na vrcholu zásobní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VP kódování – do VPI první značka a do VCI druh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VP multipoint kódování – jako SVP + do zbytku VCI identifikace vstupního uzlu sít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8360" y="1268280"/>
            <a:ext cx="806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ěrovací metody MPLS jsou podobné některým starším metodám směrovacích algoritmů, jako jsou např. ATM-přepínač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050920" y="4653000"/>
            <a:ext cx="411480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MPLS/VP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3689280"/>
            <a:ext cx="8229600" cy="28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e to dnes asi nejpoužívanější aplikace MPLS technolog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měrovač PE má uvnitř virtuální směrovač pro každého zákazní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ajištění bezpečného oddělení všech zákazník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umožní zákazníkům používat libovolné adre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elá síť poskytovatele je pro zákazníka ukry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bez velkých paměťových nároků na zařízení poskytovate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476360" y="1125360"/>
            <a:ext cx="5975280" cy="19544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11280" y="3213000"/>
            <a:ext cx="388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PLS VPN páte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Zhodnocen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95280" y="2708280"/>
            <a:ext cx="822960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ychlejší a jednodušší směrovač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i zařazování do FEC je k dispozici více informací o pake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umožňuje využití nových služe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šší bezpečnost MPLS sí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íť MPLS může směrovat pakety různých protokol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95280" y="2349360"/>
            <a:ext cx="33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Výhod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013360"/>
            <a:ext cx="8229600" cy="12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ařazování do třídy FEC může být složité a časově náročn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tný upgrade hardwaru nebo softwaru všech přepínačů sít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8360" y="4653000"/>
            <a:ext cx="33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evýhod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119700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ementace standardů MPLS umožňuje lepší řízení komunikace v IP sítích, snižuje provozní náklady a umožňuje nové služby, jako jsou např. optické VPN nebo přidělování šířky pásma podle potřeb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4T16:43:17Z</dcterms:created>
  <dc:creator>petr</dc:creator>
  <dc:description/>
  <dc:language>en-US</dc:language>
  <cp:lastModifiedBy>Vít Wasserbauer</cp:lastModifiedBy>
  <dcterms:modified xsi:type="dcterms:W3CDTF">2006-05-22T15:56:06Z</dcterms:modified>
  <cp:revision>183</cp:revision>
  <dc:subject/>
  <dc:title>X32 ZMK – Semestrální projekt </dc:title>
</cp:coreProperties>
</file>