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23D6F-EFF2-4D71-8ADD-DF7D5AEEC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93B43-7549-4942-B42D-A7858D6E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1D086-4B55-457C-AFD8-5B5E38897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CEA61-1F73-4D99-AFEF-B91C63172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536E-24D2-4334-AD84-38A5DA5EE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563B-CCCC-42F4-B7CC-7DB49BC7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E305-373F-4B62-B0D8-6D01C552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A731-53AA-43DA-B4FE-0F36F7B7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6105-EEF0-4C4D-B8C9-B8BD6917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97E5-F99C-4AD5-B0F9-C1DD4426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CCF44-D18A-422D-8DA4-543E77B1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E00A8-C70F-410B-9AED-F31E1CE7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0E7F-AFCB-4315-813A-E717846D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6756-B0F4-4AA4-8BE8-E22C88D2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29A2-3C09-4DDC-9FEF-6507CA2E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C32F-40A5-451C-9C67-E3E5990D4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ED6F-4A65-4A64-829D-07CC1833C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3125C-48A3-4968-92B5-3318A21B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CB264-DADB-4D97-A0BD-3DC807E7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0586D-2693-425E-AD98-A27D8D45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04AAF-77BD-4702-97C9-CC21B2E4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DEBAA-C6B3-490D-8BCA-D4322EBB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7DB60-4C13-4286-BAA9-5DC5767B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CD288-6027-459F-AFE8-8E5CF765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8BAC-856D-43DC-A43A-31D428E046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BA23-D931-4624-8C01-B49395A29C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omtel.cz/cz/?s=vyuka&amp;l=pred_detail&amp;kod=106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68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00000"/>
                </a:solidFill>
                <a:latin typeface="Arial"/>
              </a:rPr>
              <a:t>Multiplexní metod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16000" y="2205000"/>
            <a:ext cx="48956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Arial"/>
              </a:rPr>
              <a:t>X32TSS - Telekomunikační systémy a sítě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Seminární projek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Vypracovali: Zuzana Kút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Petr Votav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6.semestr 2005/200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DM- Wave Division multiplex 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ívá posunutých vlnových dél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nosové médium- optické vlák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y W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WDM (Density WDM)- rozestupy mezi kanály jednotky 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WDM (Coarse WDM)- rozestupy mezi signály desítky 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timalizace přenosové c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lepší využití přenosových cest pracujeme s digitalizovaným a sdruženým signálem. Hovoříme o TDM+WD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3599A-F218-457E-BF1A-E5B82C151A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DM- Wave Division multiplex I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silovače signá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ektron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žitější zařízen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utnost převodu optického signálu na elektrický, oprava časování a tvar, převod zpět na optický sign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DFA (Erbium Doped Fiber Amplifier)- zesilovač na optické bázi (stimulovaná emis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→zesílení světelného tok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hoda: při 32 kanálovém provozu potřebujeme pouze 9 EDFA zesilovačů (1000 Km) oproti 288 elekronickým zesilovačů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163F3-92A3-42DA-B2E6-1A24CE1C4E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oucnost       optická vedení      W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ysoká přenosová rych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lehlivost a kvalita přeno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132000" y="4076640"/>
            <a:ext cx="2286000" cy="1600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627280" y="206064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76720" y="2060640"/>
            <a:ext cx="433440" cy="287280"/>
          </a:xfrm>
          <a:prstGeom prst="rightArrow">
            <a:avLst>
              <a:gd name="adj1" fmla="val 50000"/>
              <a:gd name="adj2" fmla="val 37719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4E8DD-B521-4FC5-A0B1-5BB9BC127D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droje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ni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voboda, J., a spol. : Telekomunikační technika II. díl, Přenos dat, spojovací a přenosové systémy, Odborné nakladatelství 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ti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amp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Beneš, Praha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mtel : 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comtel.cz/cz/?s=vyuka&amp;l=pred_detail&amp;kod=106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64A09-CE24-4A1A-9681-8EFA52E3FA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rozdělení multiplex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DM – Frequency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incip frekvenčního multiplex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- drátový stejnopásmový (různopásmový) prov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DM- Time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incip časového multiplex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DM- Code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DM- Wave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F2AB9-7CB5-4E1D-8E0A-CFA7532BBB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kladní rozdělení multiplex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voj telekomunikačních služeb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→ zvyšování kapacity přenosových kaná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Možnosti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měna starých kabelů za nové s více žilami → neekonom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ultiplex = lepší využití stávajících přenosových c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y multiplex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vodov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rekvenční (F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ový (T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ódový (C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nový (W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D3532-FEC1-454B-A136-A740824955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DM – Frequency Division Multi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ívá frekvenčně posunutých hovorových pásem (AM modul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Šířka hovorového pásma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f = 31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dstupy pásem 900 Hz → šířka přenášeného pásma 40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bsazení frekvenčního pá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nalogie s radiovým signá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užití stíněných vodičů → na všech mohou být stejné frekv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spořádání přenosové c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- drátové stejnopásm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- drátové různopásm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- drátov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28B23-D6EB-4399-A99E-B2752685F1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ncip frekvenčního multiplex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01760" y="1341360"/>
            <a:ext cx="4821480" cy="525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897B0-B31F-4C06-9FCE-885D5624F3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- drátový stejnopásmový (různopásmový) provo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987640" y="3716280"/>
            <a:ext cx="5905440" cy="2360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16000" y="2205000"/>
            <a:ext cx="115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4365720"/>
            <a:ext cx="115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24360" y="3429000"/>
            <a:ext cx="115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04000" y="4437000"/>
            <a:ext cx="1152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5472000" cy="474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60ACA-9102-497B-B121-14DAFB31FA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DM- Time Division Multi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ové dělení kanál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→každý signál má přidělen určitý časový úsek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Úseku přiřadíme jeho okamžitou hodnotu v určitém čase (vzorková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zorkovací frekv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usí splňovat Shannon- Kotělnikovův teor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v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≥ 2*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o telefonní signál je 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= 80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CM 1.řá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praxi se TDM kombinuje s digitalizací signálu, tomu odpovídá PCM 1.řá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7305E-BEC4-4DDC-BEA6-254EE4C8B6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ncip časového multiplex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971640" y="1413000"/>
          <a:ext cx="2203200" cy="51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13000"/>
                    <a:ext cx="220320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284720" y="2349360"/>
            <a:ext cx="4038480" cy="2810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076720" y="4797360"/>
            <a:ext cx="19447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ynchroniz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02880" y="263700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02880" y="306864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02880" y="3573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02880" y="4005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63960" y="263700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63960" y="306864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63960" y="3573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63960" y="4005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33040" y="1989000"/>
            <a:ext cx="1717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M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7960" y="1989000"/>
            <a:ext cx="1552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08056-BF49-42C9-9DF1-0239F19D0A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DM- Code Division Multi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ílčí přenosy jso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"zakódovány" do jediného sp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č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ého 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osu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ždý účastník si z tohoto celk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kódu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co mu 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ísluší, pomocí kódu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ždý z přenášených signálů používá jiný kód (pseudonásobnou sekvenc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hoda -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ysoká efektivnost vy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í dostupného frekvenčního pásma</a:t>
            </a:r>
            <a:r>
              <a:rPr b="1" i="1" lang="cs-CZ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3FC21-54BB-46BA-8D2D-F31C7DCF46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7:44:08Z</dcterms:created>
  <dc:creator>petr</dc:creator>
  <dc:description/>
  <dc:language>en-US</dc:language>
  <cp:lastModifiedBy>student</cp:lastModifiedBy>
  <dcterms:modified xsi:type="dcterms:W3CDTF">2006-05-23T11:52:58Z</dcterms:modified>
  <cp:revision>34</cp:revision>
  <dc:subject/>
  <dc:title>Multiplexní metody</dc:title>
</cp:coreProperties>
</file>