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3EC-D97F-4ABF-A2A7-0F5AC5BA5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0C2-FE7B-48E2-BBF7-1260BEED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A1D-D192-4536-9110-A22A0335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9D3-25E5-46DC-8B32-3140201A2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6ACC-3DAF-4AC2-8A4B-1BE37DA9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69F-C823-4E41-9A9A-15958D0B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FC7D-19C0-461B-A50D-90C8B76D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DA2-CAF6-487B-A08C-948D33DE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AA4-97CE-4293-A79B-81D52DD9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6E7-D78B-489C-9958-B79B2EF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164-F66B-441F-9A06-FA61ED0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AEB0-0F8D-4B1C-97EF-C819501D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6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Multiprotocol Label Switching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MP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620640"/>
            <a:ext cx="82076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32TSS - Telekomunikační systémy a sí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5084640"/>
            <a:ext cx="8207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ít Wasserbau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tin Zahrad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4358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posílání paketů realizováno jiným způsobem než v běžné IP sí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vstupu MPLS sítě je paket vybaven značkou (lab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ěrovač přeposílá označkovaný paket podle přepínací tabulky a může zároveň měnit hodnotu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konci MPLS sítě je značka odejmuta a paket je dále transportován klasickým způsobem na základě IP adre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LS síť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echanismus MPLS sít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SR (Label Switch Router) – směrovač, přepíná pakety na základě MPLS znač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raniční (edge) LS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gress LSR – provádí vlože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gress LSR – provádí odebrání znač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1413000"/>
            <a:ext cx="46814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ruktura znač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bit. značka umístěná v rámci 32bit. MPLS hlavičk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4503600" cy="695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2421000"/>
            <a:ext cx="8496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 - experimentální bity pro potřeby klasifikace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– bit označující první MPLS značku vloženou do pake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L – bity s významem jako identické pole v IP hlavič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560840" cy="16671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4000" y="5516640"/>
            <a:ext cx="849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ožena mezi hlavičku rámce a transportovaný IP pak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řidělování znač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ílové IP adresy a QoS parametrů (Quality of Ser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příslušnosti paketu do VPN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multicastov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1268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načka může být paketu přidělena např. na základě těchto kritéri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285264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EC (Forwarding Equivalence Class) – množina paketů daným kritériím vyhov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2900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množina FEC -&gt; vlastní značka -&gt; určení cesty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3933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DP (Label Distribution Protoco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365720"/>
            <a:ext cx="822960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tváří FEC na základě prefixu IP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ároveň distribuce značek jednotlivých FEC mezi uzly MPLS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uje následující LSR o přiřazení zna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ováno několik různých LDP – v MPLS síti nemusí být použit pouze j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M přepínače v MPLS sítí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351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je po změně softwaru použít jako LSR (ATM-LS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vádí se speciální MPLS hlavi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čky zakódovány do polí VPI/VCI, kam tento přepínač přistup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 druhy kódován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C kódování – celé pole VPI/VCI pro značku na vrcholu zásobní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kódování – do VPI první značka a do VCI druh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P multipoint kódování – jako SVP + do zbytku VCI identifikace vstupního uzlu 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2682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ěrovací metody MPLS jsou podobné některým starším metodám směrovacích algoritmů, jako jsou např. ATM-přepínač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0920" y="4653000"/>
            <a:ext cx="41148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PLS/VP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368928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dnes asi nejpoužívanější aplikace MPLS tech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ěrovač PE má uvnitř virtuální směrovač pro každého zákazní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bezpečného oddělení všech zákaz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ní zákazníkům používat libovolné adre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á síť poskytovatele je pro zákazníka ukry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ez velkých paměťových nároků na zařízení poskytova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5975280" cy="1954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321300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PLS VPN páte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70828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ejší a jednodušší směrova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ařazování do FEC je k dispozici více informací o pak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ožňuje využití nových služ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šší bezpečnost MPLS sí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íť MPLS může směrovat pakety různých protoko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349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013360"/>
            <a:ext cx="822960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řazování do třídy FEC může být složité a časově nároč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tný upgrade hardwaru nebo softwaru všech přepínačů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65300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výhod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11970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ce standardů MPLS umožňuje lepší řízení komunikace v IP sítích, snižuje provozní náklady a umožňuje nové služby, jako jsou např. optické VPN nebo přidělování šířky pásma podle potře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16:43:17Z</dcterms:created>
  <dc:creator>petr</dc:creator>
  <dc:description/>
  <dc:language>en-US</dc:language>
  <cp:lastModifiedBy>Vít Wasserbauer</cp:lastModifiedBy>
  <dcterms:modified xsi:type="dcterms:W3CDTF">2006-05-22T15:56:06Z</dcterms:modified>
  <cp:revision>183</cp:revision>
  <dc:subject/>
  <dc:title>X32 ZMK – Semestrální projekt </dc:title>
</cp:coreProperties>
</file>